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jad0015a.wav" ContentType="audio/x-wav"/>
  <Override PartName="/ppt/media/jad0007a.wav" ContentType="audio/x-wav"/>
  <Override PartName="/ppt/media/image2.wmf" ContentType="image/x-wmf"/>
  <Override PartName="/ppt/media/image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D70-FCEC-4AB0-B190-39706012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F84-6F44-4380-A016-BC98579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C38-37B8-4C74-8EFC-71168BEC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CAF-09E4-402B-9C96-02FAB1AC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F44-4A88-4342-955C-7CE2457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7B1-74A1-408A-B5C5-5202A3D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DFF-1D0F-4C68-9CF3-8DAAFA01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94B-736F-492A-96EE-D9677E9B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6B9-14F6-4743-B3BB-7704AFF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D5D-A8BC-4FED-86A1-96EAF52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516-6118-42D0-9EF8-EBD0905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2F1-B515-4198-B47A-E32286D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92D-19C7-4E74-BAEF-D7D219EED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ad0015a.wav"/><Relationship Id="rId2" Type="http://schemas.openxmlformats.org/officeDocument/2006/relationships/audio" Target="../media/jad0007a.wav"/><Relationship Id="rId3" Type="http://schemas.openxmlformats.org/officeDocument/2006/relationships/audio" Target="../media/jad0007a.wav"/><Relationship Id="rId4" Type="http://schemas.openxmlformats.org/officeDocument/2006/relationships/audio" Target="../media/jad0007a.wav"/><Relationship Id="rId5" Type="http://schemas.openxmlformats.org/officeDocument/2006/relationships/audio" Target="../media/jad0007a.wav"/><Relationship Id="rId6" Type="http://schemas.openxmlformats.org/officeDocument/2006/relationships/audio" Target="../media/jad0007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cript MT Bold"/>
              </a:rPr>
              <a:t>Specific Fo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ith 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675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orce is Perpendicular to the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1371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heck your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762120"/>
            <a:ext cx="82296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is moving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ock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on around a circle at constant speed. Use your understanding of the concepts of velocity, acceleration, and force to answer the next five questions. Use the diagram shown at the r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2057400" cy="19051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086240" y="5029200"/>
            <a:ext cx="6094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5638680"/>
            <a:ext cx="76212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hich vector below represents the direction of the force vector when the object is located at point A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6662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vector below represents the direction of the force vector when the object is located at point C on the circle?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83059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ector below represents the direction of the velocity vector when the object is located at point B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305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ich vector below represents the direction of the velocity vector when the object is located at point C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199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cto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hich vector below represents the direction of the acceleration vector when the object is located at point B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819936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imes New Roman"/>
              </a:rPr>
              <a:t>Motion in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locity is a vector; it ha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bject travelling in a circle at constant speed is continuously changing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it is accele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us, requires a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911920" y="3637080"/>
                <a:ext cx="138420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64000" y="4890960"/>
                <a:ext cx="27349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315120" y="5054760"/>
            <a:ext cx="1103400" cy="1052280"/>
          </a:xfrm>
          <a:custGeom>
            <a:avLst/>
            <a:gdLst>
              <a:gd name="textAreaLeft" fmla="*/ 68040 w 1103400"/>
              <a:gd name="textAreaRight" fmla="*/ 1035360 w 1103400"/>
              <a:gd name="textAreaTop" fmla="*/ 68040 h 1052280"/>
              <a:gd name="textAreaBottom" fmla="*/ 984240 h 1052280"/>
            </a:gdLst>
            <a:ahLst/>
            <a:rect l="textAreaLeft" t="textAreaTop" r="textAreaRight" b="textAreaBottom"/>
            <a:pathLst>
              <a:path w="22649" h="21600">
                <a:moveTo>
                  <a:pt x="0" y="0"/>
                </a:moveTo>
                <a:lnTo>
                  <a:pt x="22649" y="0"/>
                </a:lnTo>
                <a:lnTo>
                  <a:pt x="22649" y="21600"/>
                </a:lnTo>
                <a:lnTo>
                  <a:pt x="0" y="21600"/>
                </a:lnTo>
                <a:close/>
              </a:path>
              <a:path fill="lightenLess" w="22649" h="21600">
                <a:moveTo>
                  <a:pt x="0" y="0"/>
                </a:moveTo>
                <a:lnTo>
                  <a:pt x="22649" y="0"/>
                </a:lnTo>
                <a:lnTo>
                  <a:pt x="21249" y="1400"/>
                </a:lnTo>
                <a:lnTo>
                  <a:pt x="1400" y="1400"/>
                </a:lnTo>
                <a:close/>
              </a:path>
              <a:path fill="darken" w="22649" h="21600">
                <a:moveTo>
                  <a:pt x="22649" y="0"/>
                </a:moveTo>
                <a:lnTo>
                  <a:pt x="22649" y="21600"/>
                </a:lnTo>
                <a:lnTo>
                  <a:pt x="21249" y="20200"/>
                </a:lnTo>
                <a:lnTo>
                  <a:pt x="21249" y="1400"/>
                </a:lnTo>
                <a:close/>
              </a:path>
              <a:path fill="darkenLess" w="22649" h="21600">
                <a:moveTo>
                  <a:pt x="22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9" y="20200"/>
                </a:lnTo>
                <a:close/>
              </a:path>
              <a:path fill="lighten" w="22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ntripetal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cceleration can be calcu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= v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/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s the centripetal accel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is the sp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the radius of the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2780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u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 Zonk is twice as far from the sun as Earth. What is its peri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an the astronaut ( mass 80kg) is floating in orbit about earth and feels a gravitational attraction of 360 newtons. What is the value of gravity at his lo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his orbital radius as a multiple of earth’s rad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ircular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peed is distance traveled divided by the time it takes to travel the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v = 2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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/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is the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the radius of the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is the period of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27800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actic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unner moving at a speed of 8.8 m/s rounds a bend with a radius of 25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entripetal acceleration of the runner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rovided this acceleration to the runn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ction between his shoes and the tr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ract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ing on a flat track, a car going 32 m/s rounds a curve 56 m in rad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r’s centripetal accel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be the minimum coefficient of static friction between tires and road that would be needed for the car to round the curve without skid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/c # 6 an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13 to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Explain why a body moving with uniform circular motion must be regarded as undergoing</a:t>
            </a: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 acceleration and state the direction of the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Predict the path of an object which has a force acting on it perpendicular to the direction of its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Indicate the direction of the instantaneous velocity, centripetal acceleration, and centripetal force for an object moving at constant velocity in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Calculate centripetal acceleration and forc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magin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moon on its journey around the ear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an amusement park ride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ns you around in a constant circ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scribe this kind of circular mo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velocity constant or is it accelera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moon stay up there in the sk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ad0015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s Uniform Circular Mo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ircular Motion is motion in a circle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Radius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Spe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v 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1350720" cy="12430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809880" y="2057400"/>
            <a:ext cx="2973240" cy="774720"/>
            <a:chOff x="3809880" y="2057400"/>
            <a:chExt cx="2973240" cy="774720"/>
          </a:xfrm>
        </p:grpSpPr>
        <p:sp>
          <p:nvSpPr>
            <p:cNvPr id="59" name=""/>
            <p:cNvSpPr/>
            <p:nvPr/>
          </p:nvSpPr>
          <p:spPr>
            <a:xfrm>
              <a:off x="3809880" y="2057400"/>
              <a:ext cx="2973240" cy="471240"/>
            </a:xfrm>
            <a:custGeom>
              <a:avLst/>
              <a:gdLst/>
              <a:ahLst/>
              <a:rect l="l" t="t" r="r" b="b"/>
              <a:pathLst>
                <a:path w="1873" h="297">
                  <a:moveTo>
                    <a:pt x="0" y="149"/>
                  </a:moveTo>
                  <a:lnTo>
                    <a:pt x="0" y="286"/>
                  </a:lnTo>
                  <a:lnTo>
                    <a:pt x="21" y="266"/>
                  </a:lnTo>
                  <a:lnTo>
                    <a:pt x="53" y="248"/>
                  </a:lnTo>
                  <a:lnTo>
                    <a:pt x="97" y="232"/>
                  </a:lnTo>
                  <a:lnTo>
                    <a:pt x="145" y="217"/>
                  </a:lnTo>
                  <a:lnTo>
                    <a:pt x="217" y="203"/>
                  </a:lnTo>
                  <a:lnTo>
                    <a:pt x="292" y="191"/>
                  </a:lnTo>
                  <a:lnTo>
                    <a:pt x="376" y="180"/>
                  </a:lnTo>
                  <a:lnTo>
                    <a:pt x="483" y="170"/>
                  </a:lnTo>
                  <a:lnTo>
                    <a:pt x="573" y="163"/>
                  </a:lnTo>
                  <a:lnTo>
                    <a:pt x="668" y="158"/>
                  </a:lnTo>
                  <a:lnTo>
                    <a:pt x="763" y="155"/>
                  </a:lnTo>
                  <a:lnTo>
                    <a:pt x="881" y="152"/>
                  </a:lnTo>
                  <a:lnTo>
                    <a:pt x="1032" y="152"/>
                  </a:lnTo>
                  <a:lnTo>
                    <a:pt x="1161" y="157"/>
                  </a:lnTo>
                  <a:lnTo>
                    <a:pt x="1274" y="162"/>
                  </a:lnTo>
                  <a:lnTo>
                    <a:pt x="1396" y="171"/>
                  </a:lnTo>
                  <a:lnTo>
                    <a:pt x="1494" y="180"/>
                  </a:lnTo>
                  <a:lnTo>
                    <a:pt x="1570" y="190"/>
                  </a:lnTo>
                  <a:lnTo>
                    <a:pt x="1635" y="201"/>
                  </a:lnTo>
                  <a:lnTo>
                    <a:pt x="1682" y="209"/>
                  </a:lnTo>
                  <a:lnTo>
                    <a:pt x="1723" y="217"/>
                  </a:lnTo>
                  <a:lnTo>
                    <a:pt x="1762" y="230"/>
                  </a:lnTo>
                  <a:lnTo>
                    <a:pt x="1795" y="239"/>
                  </a:lnTo>
                  <a:lnTo>
                    <a:pt x="1826" y="253"/>
                  </a:lnTo>
                  <a:lnTo>
                    <a:pt x="1840" y="259"/>
                  </a:lnTo>
                  <a:lnTo>
                    <a:pt x="1854" y="268"/>
                  </a:lnTo>
                  <a:lnTo>
                    <a:pt x="1864" y="279"/>
                  </a:lnTo>
                  <a:lnTo>
                    <a:pt x="1872" y="296"/>
                  </a:lnTo>
                  <a:lnTo>
                    <a:pt x="1872" y="139"/>
                  </a:lnTo>
                  <a:lnTo>
                    <a:pt x="1865" y="124"/>
                  </a:lnTo>
                  <a:lnTo>
                    <a:pt x="1844" y="109"/>
                  </a:lnTo>
                  <a:lnTo>
                    <a:pt x="1822" y="96"/>
                  </a:lnTo>
                  <a:lnTo>
                    <a:pt x="1795" y="87"/>
                  </a:lnTo>
                  <a:lnTo>
                    <a:pt x="1770" y="78"/>
                  </a:lnTo>
                  <a:lnTo>
                    <a:pt x="1740" y="69"/>
                  </a:lnTo>
                  <a:lnTo>
                    <a:pt x="1707" y="61"/>
                  </a:lnTo>
                  <a:lnTo>
                    <a:pt x="1662" y="52"/>
                  </a:lnTo>
                  <a:lnTo>
                    <a:pt x="1614" y="43"/>
                  </a:lnTo>
                  <a:lnTo>
                    <a:pt x="1560" y="35"/>
                  </a:lnTo>
                  <a:lnTo>
                    <a:pt x="1499" y="28"/>
                  </a:lnTo>
                  <a:lnTo>
                    <a:pt x="1429" y="20"/>
                  </a:lnTo>
                  <a:lnTo>
                    <a:pt x="1343" y="13"/>
                  </a:lnTo>
                  <a:lnTo>
                    <a:pt x="1247" y="8"/>
                  </a:lnTo>
                  <a:lnTo>
                    <a:pt x="1128" y="2"/>
                  </a:lnTo>
                  <a:lnTo>
                    <a:pt x="1016" y="0"/>
                  </a:lnTo>
                  <a:lnTo>
                    <a:pt x="871" y="0"/>
                  </a:lnTo>
                  <a:lnTo>
                    <a:pt x="752" y="2"/>
                  </a:lnTo>
                  <a:lnTo>
                    <a:pt x="679" y="5"/>
                  </a:lnTo>
                  <a:lnTo>
                    <a:pt x="612" y="9"/>
                  </a:lnTo>
                  <a:lnTo>
                    <a:pt x="553" y="12"/>
                  </a:lnTo>
                  <a:lnTo>
                    <a:pt x="505" y="16"/>
                  </a:lnTo>
                  <a:lnTo>
                    <a:pt x="444" y="20"/>
                  </a:lnTo>
                  <a:lnTo>
                    <a:pt x="376" y="28"/>
                  </a:lnTo>
                  <a:lnTo>
                    <a:pt x="326" y="34"/>
                  </a:lnTo>
                  <a:lnTo>
                    <a:pt x="274" y="41"/>
                  </a:lnTo>
                  <a:lnTo>
                    <a:pt x="247" y="46"/>
                  </a:lnTo>
                  <a:lnTo>
                    <a:pt x="212" y="51"/>
                  </a:lnTo>
                  <a:lnTo>
                    <a:pt x="180" y="58"/>
                  </a:lnTo>
                  <a:lnTo>
                    <a:pt x="140" y="67"/>
                  </a:lnTo>
                  <a:lnTo>
                    <a:pt x="116" y="73"/>
                  </a:lnTo>
                  <a:lnTo>
                    <a:pt x="97" y="79"/>
                  </a:lnTo>
                  <a:lnTo>
                    <a:pt x="76" y="86"/>
                  </a:lnTo>
                  <a:lnTo>
                    <a:pt x="54" y="94"/>
                  </a:lnTo>
                  <a:lnTo>
                    <a:pt x="38" y="101"/>
                  </a:lnTo>
                  <a:lnTo>
                    <a:pt x="21" y="111"/>
                  </a:lnTo>
                  <a:lnTo>
                    <a:pt x="9" y="122"/>
                  </a:lnTo>
                  <a:lnTo>
                    <a:pt x="3" y="130"/>
                  </a:lnTo>
                  <a:lnTo>
                    <a:pt x="0" y="139"/>
                  </a:lnTo>
                  <a:lnTo>
                    <a:pt x="0" y="1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809880" y="2282760"/>
              <a:ext cx="2973240" cy="549360"/>
              <a:chOff x="3809880" y="2282760"/>
              <a:chExt cx="2973240" cy="549360"/>
            </a:xfrm>
          </p:grpSpPr>
          <p:sp>
            <p:nvSpPr>
              <p:cNvPr id="61" name=""/>
              <p:cNvSpPr/>
              <p:nvPr/>
            </p:nvSpPr>
            <p:spPr>
              <a:xfrm>
                <a:off x="3809880" y="2292120"/>
                <a:ext cx="1541520" cy="540000"/>
              </a:xfrm>
              <a:custGeom>
                <a:avLst/>
                <a:gdLst/>
                <a:ahLst/>
                <a:rect l="l" t="t" r="r" b="b"/>
                <a:pathLst>
                  <a:path w="971" h="340">
                    <a:moveTo>
                      <a:pt x="0" y="140"/>
                    </a:moveTo>
                    <a:lnTo>
                      <a:pt x="0" y="149"/>
                    </a:lnTo>
                    <a:lnTo>
                      <a:pt x="4" y="162"/>
                    </a:lnTo>
                    <a:lnTo>
                      <a:pt x="16" y="177"/>
                    </a:lnTo>
                    <a:lnTo>
                      <a:pt x="36" y="189"/>
                    </a:lnTo>
                    <a:lnTo>
                      <a:pt x="60" y="200"/>
                    </a:lnTo>
                    <a:lnTo>
                      <a:pt x="87" y="210"/>
                    </a:lnTo>
                    <a:lnTo>
                      <a:pt x="115" y="217"/>
                    </a:lnTo>
                    <a:lnTo>
                      <a:pt x="155" y="228"/>
                    </a:lnTo>
                    <a:lnTo>
                      <a:pt x="193" y="237"/>
                    </a:lnTo>
                    <a:lnTo>
                      <a:pt x="238" y="245"/>
                    </a:lnTo>
                    <a:lnTo>
                      <a:pt x="292" y="253"/>
                    </a:lnTo>
                    <a:lnTo>
                      <a:pt x="352" y="262"/>
                    </a:lnTo>
                    <a:lnTo>
                      <a:pt x="393" y="266"/>
                    </a:lnTo>
                    <a:lnTo>
                      <a:pt x="439" y="271"/>
                    </a:lnTo>
                    <a:lnTo>
                      <a:pt x="483" y="275"/>
                    </a:lnTo>
                    <a:lnTo>
                      <a:pt x="524" y="278"/>
                    </a:lnTo>
                    <a:lnTo>
                      <a:pt x="554" y="280"/>
                    </a:lnTo>
                    <a:lnTo>
                      <a:pt x="584" y="282"/>
                    </a:lnTo>
                    <a:lnTo>
                      <a:pt x="631" y="285"/>
                    </a:lnTo>
                    <a:lnTo>
                      <a:pt x="681" y="287"/>
                    </a:lnTo>
                    <a:lnTo>
                      <a:pt x="741" y="289"/>
                    </a:lnTo>
                    <a:lnTo>
                      <a:pt x="741" y="339"/>
                    </a:lnTo>
                    <a:lnTo>
                      <a:pt x="970" y="217"/>
                    </a:lnTo>
                    <a:lnTo>
                      <a:pt x="741" y="80"/>
                    </a:lnTo>
                    <a:lnTo>
                      <a:pt x="741" y="135"/>
                    </a:lnTo>
                    <a:lnTo>
                      <a:pt x="701" y="134"/>
                    </a:lnTo>
                    <a:lnTo>
                      <a:pt x="655" y="131"/>
                    </a:lnTo>
                    <a:lnTo>
                      <a:pt x="604" y="128"/>
                    </a:lnTo>
                    <a:lnTo>
                      <a:pt x="554" y="125"/>
                    </a:lnTo>
                    <a:lnTo>
                      <a:pt x="510" y="122"/>
                    </a:lnTo>
                    <a:lnTo>
                      <a:pt x="469" y="119"/>
                    </a:lnTo>
                    <a:lnTo>
                      <a:pt x="401" y="112"/>
                    </a:lnTo>
                    <a:lnTo>
                      <a:pt x="341" y="105"/>
                    </a:lnTo>
                    <a:lnTo>
                      <a:pt x="300" y="100"/>
                    </a:lnTo>
                    <a:lnTo>
                      <a:pt x="266" y="95"/>
                    </a:lnTo>
                    <a:lnTo>
                      <a:pt x="232" y="89"/>
                    </a:lnTo>
                    <a:lnTo>
                      <a:pt x="205" y="84"/>
                    </a:lnTo>
                    <a:lnTo>
                      <a:pt x="177" y="79"/>
                    </a:lnTo>
                    <a:lnTo>
                      <a:pt x="155" y="74"/>
                    </a:lnTo>
                    <a:lnTo>
                      <a:pt x="134" y="69"/>
                    </a:lnTo>
                    <a:lnTo>
                      <a:pt x="115" y="64"/>
                    </a:lnTo>
                    <a:lnTo>
                      <a:pt x="93" y="57"/>
                    </a:lnTo>
                    <a:lnTo>
                      <a:pt x="77" y="51"/>
                    </a:lnTo>
                    <a:lnTo>
                      <a:pt x="58" y="45"/>
                    </a:lnTo>
                    <a:lnTo>
                      <a:pt x="44" y="39"/>
                    </a:lnTo>
                    <a:lnTo>
                      <a:pt x="34" y="33"/>
                    </a:lnTo>
                    <a:lnTo>
                      <a:pt x="22" y="26"/>
                    </a:lnTo>
                    <a:lnTo>
                      <a:pt x="14" y="19"/>
                    </a:lnTo>
                    <a:lnTo>
                      <a:pt x="8" y="13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14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84440" y="2282760"/>
                <a:ext cx="1498680" cy="474480"/>
              </a:xfrm>
              <a:custGeom>
                <a:avLst/>
                <a:gdLst/>
                <a:ahLst/>
                <a:rect l="l" t="t" r="r" b="b"/>
                <a:pathLst>
                  <a:path w="944" h="299">
                    <a:moveTo>
                      <a:pt x="0" y="144"/>
                    </a:moveTo>
                    <a:lnTo>
                      <a:pt x="134" y="224"/>
                    </a:lnTo>
                    <a:lnTo>
                      <a:pt x="8" y="298"/>
                    </a:lnTo>
                    <a:lnTo>
                      <a:pt x="64" y="298"/>
                    </a:lnTo>
                    <a:lnTo>
                      <a:pt x="144" y="297"/>
                    </a:lnTo>
                    <a:lnTo>
                      <a:pt x="216" y="294"/>
                    </a:lnTo>
                    <a:lnTo>
                      <a:pt x="294" y="291"/>
                    </a:lnTo>
                    <a:lnTo>
                      <a:pt x="375" y="287"/>
                    </a:lnTo>
                    <a:lnTo>
                      <a:pt x="453" y="281"/>
                    </a:lnTo>
                    <a:lnTo>
                      <a:pt x="502" y="276"/>
                    </a:lnTo>
                    <a:lnTo>
                      <a:pt x="562" y="269"/>
                    </a:lnTo>
                    <a:lnTo>
                      <a:pt x="616" y="264"/>
                    </a:lnTo>
                    <a:lnTo>
                      <a:pt x="660" y="257"/>
                    </a:lnTo>
                    <a:lnTo>
                      <a:pt x="700" y="251"/>
                    </a:lnTo>
                    <a:lnTo>
                      <a:pt x="747" y="243"/>
                    </a:lnTo>
                    <a:lnTo>
                      <a:pt x="781" y="236"/>
                    </a:lnTo>
                    <a:lnTo>
                      <a:pt x="814" y="227"/>
                    </a:lnTo>
                    <a:lnTo>
                      <a:pt x="844" y="219"/>
                    </a:lnTo>
                    <a:lnTo>
                      <a:pt x="864" y="212"/>
                    </a:lnTo>
                    <a:lnTo>
                      <a:pt x="883" y="204"/>
                    </a:lnTo>
                    <a:lnTo>
                      <a:pt x="899" y="197"/>
                    </a:lnTo>
                    <a:lnTo>
                      <a:pt x="917" y="187"/>
                    </a:lnTo>
                    <a:lnTo>
                      <a:pt x="927" y="179"/>
                    </a:lnTo>
                    <a:lnTo>
                      <a:pt x="935" y="170"/>
                    </a:lnTo>
                    <a:lnTo>
                      <a:pt x="941" y="163"/>
                    </a:lnTo>
                    <a:lnTo>
                      <a:pt x="943" y="155"/>
                    </a:lnTo>
                    <a:lnTo>
                      <a:pt x="943" y="147"/>
                    </a:lnTo>
                    <a:lnTo>
                      <a:pt x="943" y="0"/>
                    </a:lnTo>
                    <a:lnTo>
                      <a:pt x="939" y="10"/>
                    </a:lnTo>
                    <a:lnTo>
                      <a:pt x="933" y="20"/>
                    </a:lnTo>
                    <a:lnTo>
                      <a:pt x="923" y="29"/>
                    </a:lnTo>
                    <a:lnTo>
                      <a:pt x="909" y="39"/>
                    </a:lnTo>
                    <a:lnTo>
                      <a:pt x="890" y="48"/>
                    </a:lnTo>
                    <a:lnTo>
                      <a:pt x="868" y="57"/>
                    </a:lnTo>
                    <a:lnTo>
                      <a:pt x="842" y="66"/>
                    </a:lnTo>
                    <a:lnTo>
                      <a:pt x="808" y="75"/>
                    </a:lnTo>
                    <a:lnTo>
                      <a:pt x="766" y="85"/>
                    </a:lnTo>
                    <a:lnTo>
                      <a:pt x="739" y="90"/>
                    </a:lnTo>
                    <a:lnTo>
                      <a:pt x="704" y="96"/>
                    </a:lnTo>
                    <a:lnTo>
                      <a:pt x="670" y="102"/>
                    </a:lnTo>
                    <a:lnTo>
                      <a:pt x="630" y="107"/>
                    </a:lnTo>
                    <a:lnTo>
                      <a:pt x="597" y="112"/>
                    </a:lnTo>
                    <a:lnTo>
                      <a:pt x="532" y="119"/>
                    </a:lnTo>
                    <a:lnTo>
                      <a:pt x="476" y="125"/>
                    </a:lnTo>
                    <a:lnTo>
                      <a:pt x="409" y="130"/>
                    </a:lnTo>
                    <a:lnTo>
                      <a:pt x="330" y="135"/>
                    </a:lnTo>
                    <a:lnTo>
                      <a:pt x="252" y="140"/>
                    </a:lnTo>
                    <a:lnTo>
                      <a:pt x="192" y="142"/>
                    </a:lnTo>
                    <a:lnTo>
                      <a:pt x="122" y="144"/>
                    </a:lnTo>
                    <a:lnTo>
                      <a:pt x="4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f the String Brea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621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trmas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106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ccelerat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ward the ce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causes an object to continually change velocity because it is changing direction while the speed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= ma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5257800"/>
            <a:ext cx="12776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happens when you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168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00480" y="2703600"/>
            <a:ext cx="43434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ithout 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076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15:47:03Z</dcterms:created>
  <dc:creator>Oak Hall School </dc:creator>
  <dc:description/>
  <dc:language>en-US</dc:language>
  <cp:lastModifiedBy>DCPS</cp:lastModifiedBy>
  <dcterms:modified xsi:type="dcterms:W3CDTF">2007-12-03T12:50:45Z</dcterms:modified>
  <cp:revision>23</cp:revision>
  <dc:subject/>
  <dc:title>Uniform Circular Motion</dc:title>
</cp:coreProperties>
</file>